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579-889F-4CEC-915A-210C6F64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1F7-5ED6-4CCF-B482-FDA1950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037-860D-43DC-98AE-3218B8F1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A7A-3829-43E8-BE75-EAAF0045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A087-6162-45E5-BF33-86F86008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A38B-6D00-4B3A-A6E4-231799D2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C03A-0382-4CB0-8C0B-C812076F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6DFA-6F50-4630-A2A9-AC5CF83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7E21-CA0D-4016-828E-1977160A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042-EBBA-480F-8580-FF26049F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2161-0DBD-41FA-9CD4-F7F4570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106-E7A6-4B32-B02B-4F5DDAFD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F994-FEEC-40FC-9441-0DBE110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1D7A-1031-4657-A746-D109EF1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C386-3E54-4C81-9CB1-93C4B46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E84-2C8F-4F56-B2F5-674DD3BC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1EDA-9965-4E72-BFAD-5F5389FA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1A4E-D4B2-47D4-A752-140BD4ED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F2D6-AA6C-4842-93BD-775C0F2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6F14-4E02-4F8B-9145-6A46E15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6D3F-A423-4726-9EA6-36A7EEAE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8D90-5B1F-4ACE-83B3-685E58D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96A-AD2E-4225-9F31-2D3A85D8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210F-9EE1-49D1-98E3-A763E84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B5AF-807B-43ED-BD4E-49E9153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4A88-73BD-4C39-8547-CCA6AC39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18CE-F2C3-4BCA-99A5-9AF30D1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BE3F-BB1E-487C-AA17-783B8D0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A04B-4371-4E9C-868C-12C45EA1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EFEA-7FD8-41AF-AB0E-7DC467C9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A3BF2-B2E9-4A32-A61E-5744A473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35978-C120-4135-8434-70600D6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4599E-7A10-4E35-B53D-C0F9D7B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2D8-1D5A-4FD6-8C5C-FA56878B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98F84-C44F-4675-A8B6-83077BF7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3ADA9-01FF-4745-A1B0-9F7595A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13D5E-597C-4ABB-B783-8A9D8FFC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EE8A1-C009-4C5B-8288-DDC9189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4C002-2417-4924-9E20-97FA18F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CE11B-2B5A-438E-B523-71F847A6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7CCA0-1078-4727-AE25-C8D6F8B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DF784-81C5-4954-B2AF-65C755B2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87738-DDBF-4119-81F6-B24C0B05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7785F-078E-418D-A2E4-61D37DA7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794-796C-45C7-9A7E-C1781C4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31F1E-6F3B-45B6-AFF5-E8F45CDE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AD4D5-6B57-4640-B66B-91B0E6E5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7C00C-B908-4F24-BB22-264E2837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FAA2C-9C01-4A78-8E7D-A1451C4B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06281-C29E-444F-AD16-F0378F02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F1C9C-E7C6-4BAF-B45A-FAC87926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78C10-8005-47F2-A1DB-81C7061D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21647-B5FB-4283-A0B1-BE31D6A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4A664-9735-4609-BF7C-269700D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626D5-E703-410A-B61A-F455C214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662-640E-455B-9B08-C35ADD25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656ED-9855-4E7F-B2E2-AD50AFF7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313AF-57D8-4405-B2DB-EBD89770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7921-0B00-4D46-BD24-DB2FAA4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6B3C-8458-4EA1-9684-CA5C6390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8A804-E00B-4B15-9408-DFD7D78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0C16-604B-439D-93DB-FD1FC647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2AF40-26EC-4932-9350-EC25A542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8611-E2B1-429F-BF97-8A7EF97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45F9-8019-44B7-91FB-F11738D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D2FF7-697E-43A8-B1B6-F909D0FF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B65-27F4-45EC-897A-77DF7A6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CB79-AA66-4C92-98C2-B8D93C2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FD954-57BF-48BB-A6C2-0DD4B9B2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FA040-3479-42AE-93F5-75E3D2E0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2349-7979-499F-B624-CE4C1DC4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D24A9-BA08-4482-8E81-07ADAB7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19CE8-4A8D-4AF6-9D86-27DC7D4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6AC3F-A742-43FF-A0ED-BEFBAC8D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B8C5-97D2-4C6C-9A13-F70E8B3D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9095-1B58-4BEE-B30C-8876F8DD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21133-E731-4951-A58B-263EF966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FCE-B73D-4B9C-9B04-BCE07053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77F17-A9F4-4170-9B2F-2E8E8357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AC02-1089-425B-A345-5208D54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756BA-0B3C-4EC9-9AB1-2F89CBC5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B5E4-D92A-4628-802D-31BD558E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253FC-58FD-40ED-BF8C-84F396D0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E4E9-986D-44DD-A003-E51FD71F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A3BF9-AEEB-4BD0-9A57-EDDB10F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7EC8-9F32-4F6F-A37F-66D6898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8FD6A-1BBC-4311-9ADC-F0C52F55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D90C-FF72-4F33-9B24-6ADCA69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DB9-D929-409E-B259-ACAA42C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E859-A03D-444C-AEEC-62DA4A3B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6FF47-36E1-4CEF-9015-27C2706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14D4C-A6BB-47BB-9B12-EE7F585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4342-B003-4F84-9195-FC70600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49324-57BE-4AEF-BB74-D1235B78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C9C46-FE3D-4977-A4A1-0150724D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BA551-BF1E-41D5-8396-BE1C6F75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0096-16D5-4EB2-A7AF-FFD27615F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F5B9-CA1D-4E81-B5CA-C424CA67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B205-A272-4FF1-BFAE-A2F255DFD74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B221-3A41-4BE1-B914-2A8D4ECD10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2527-43B2-47A6-B2F6-9292320D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9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43E-6555-44A9-A5C8-E9B3A4A0F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75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476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8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79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3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4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85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8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8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9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5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06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0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1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1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2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5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36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8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39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4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47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49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0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2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3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5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5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7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8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59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0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4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65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7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68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9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0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2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3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5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7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58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8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8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9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92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593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83EA-A801-4D98-9259-AA9E5E3FDAD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B0AE-8397-4EA7-B89E-A0B3DD928C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epartments.bucknell.edu/history/carnegie/plato/plato_bust.jpg" TargetMode="External"/><Relationship Id="rId2" Type="http://schemas.openxmlformats.org/officeDocument/2006/relationships/hyperlink" Target="http://static.newworldencyclopedia.org/4/4e/Epikur.jpg" TargetMode="External"/><Relationship Id="rId3" Type="http://schemas.openxmlformats.org/officeDocument/2006/relationships/hyperlink" Target="http://www.liberal-vision.org/wp-content/uploads/2009/12/aristotle.jpg" TargetMode="External"/><Relationship Id="rId4" Type="http://schemas.openxmlformats.org/officeDocument/2006/relationships/hyperlink" Target="http://www.everydayminimalist.com/wp-content/uploads/2010/05/socrates.jpg" TargetMode="External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5" descr="ancgrmpa3"/>
          <p:cNvPicPr/>
          <p:nvPr/>
        </p:nvPicPr>
        <p:blipFill>
          <a:blip r:embed="rId1"/>
          <a:stretch/>
        </p:blipFill>
        <p:spPr>
          <a:xfrm>
            <a:off x="304920" y="1905120"/>
            <a:ext cx="3105000" cy="43527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4724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03"/>
                </a:solidFill>
                <a:latin typeface="Arial Black"/>
              </a:rPr>
              <a:t>Ancient Greek  Philosoph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By: Yangji Sherp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A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Jianna Almeid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6-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5" descr="atheenseschool"/>
          <p:cNvPicPr/>
          <p:nvPr/>
        </p:nvPicPr>
        <p:blipFill>
          <a:blip r:embed="rId2"/>
          <a:stretch/>
        </p:blipFill>
        <p:spPr>
          <a:xfrm>
            <a:off x="3886200" y="1523880"/>
            <a:ext cx="4416480" cy="39531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olden Age Philosoph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hens philosophers teac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5" descr="socrates"/>
          <p:cNvPicPr/>
          <p:nvPr/>
        </p:nvPicPr>
        <p:blipFill>
          <a:blip r:embed="rId1"/>
          <a:stretch/>
        </p:blipFill>
        <p:spPr>
          <a:xfrm>
            <a:off x="4800600" y="1219320"/>
            <a:ext cx="3594240" cy="5400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ra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Greek Philosophe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5" descr="sad-face"/>
          <p:cNvPicPr/>
          <p:nvPr/>
        </p:nvPicPr>
        <p:blipFill>
          <a:blip r:embed="rId1"/>
          <a:stretch/>
        </p:blipFill>
        <p:spPr>
          <a:xfrm>
            <a:off x="2057400" y="1523880"/>
            <a:ext cx="4667400" cy="459108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rates Di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5" descr="plato_bust"/>
          <p:cNvPicPr/>
          <p:nvPr/>
        </p:nvPicPr>
        <p:blipFill>
          <a:blip r:embed="rId1"/>
          <a:stretch/>
        </p:blipFill>
        <p:spPr>
          <a:xfrm>
            <a:off x="2209680" y="2065320"/>
            <a:ext cx="4572000" cy="479268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la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an Ancient Greek Philosop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5" descr="aristotle"/>
          <p:cNvPicPr/>
          <p:nvPr/>
        </p:nvPicPr>
        <p:blipFill>
          <a:blip r:embed="rId1"/>
          <a:stretch/>
        </p:blipFill>
        <p:spPr>
          <a:xfrm>
            <a:off x="4876920" y="1219320"/>
            <a:ext cx="3848040" cy="502920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was another Ancient Greek Philosophe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" descr="Epikur"/>
          <p:cNvPicPr/>
          <p:nvPr/>
        </p:nvPicPr>
        <p:blipFill>
          <a:blip r:embed="rId1"/>
          <a:stretch/>
        </p:blipFill>
        <p:spPr>
          <a:xfrm>
            <a:off x="5638680" y="1295280"/>
            <a:ext cx="3372120" cy="48006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cur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was an Ancient Gree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hilosophe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departments.bucknell.edu/history/carnegie/plato/plato_bust.jpg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static.newworldencyclopedia.org/4/4e/Epikur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liberal-vision.org/wp-content/uploads/2009/12/aristotle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http://www.everydayminimalist.com/wp-content/uploads/2010/05/socrates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21stcenturymed.org/sad-face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historyonthenet.com/shop/images/Display/ancgrmpa3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ancientgreece.com/s/People/Aristotle/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ancientgreece.com/s/People/Plato/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ancientgreece.com/s/People/Epicurus/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*Social Studies textbook*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7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7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4:24:26Z</dcterms:created>
  <dc:creator>Administrator</dc:creator>
  <dc:description/>
  <dc:language>en-US</dc:language>
  <cp:lastModifiedBy>Franklin Township School</cp:lastModifiedBy>
  <dcterms:modified xsi:type="dcterms:W3CDTF">2010-12-21T13:53:49Z</dcterms:modified>
  <cp:revision>5</cp:revision>
  <dc:subject/>
  <dc:title>Slide 1</dc:title>
</cp:coreProperties>
</file>